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15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A7E-BD86-4119-A875-E75478EB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566-BC45-41C6-82B1-8F58C2C9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22" descr="Carcassonne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25" descr="blue knight"/>
          <p:cNvPicPr/>
          <p:nvPr/>
        </p:nvPicPr>
        <p:blipFill>
          <a:blip r:embed="rId3"/>
          <a:srcRect l="7861" t="3331" r="9499" b="3331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144792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8a4a1"/>
                  </a:solidFill>
                  <a:miter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28a4a1"/>
                  </a:outerShdw>
                </a:effectLst>
                <a:latin typeface="Lombardic Narrow"/>
              </a:rPr>
              <a:t>The Middle Ages</a:t>
            </a:r>
            <a:endParaRPr b="0" lang="en-US" sz="2400" spc="1" strike="noStrike">
              <a:ln w="12600">
                <a:solidFill>
                  <a:srgbClr val="28a4a1"/>
                </a:solidFill>
                <a:miter/>
              </a:ln>
              <a:solidFill>
                <a:srgbClr val="006699"/>
              </a:solidFill>
              <a:effectLst>
                <a:outerShdw dist="40186" dir="1096358" blurRad="0" rotWithShape="0">
                  <a:srgbClr val="28a4a1"/>
                </a:outerShdw>
              </a:effectLst>
              <a:latin typeface="Lombardic Narrow"/>
              <a:ea typeface="Lombardic Narrow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47920" y="5486400"/>
            <a:ext cx="74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of Roman Empire- Germanic Barbarians took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erything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lemagne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52480" y="2286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ap-Charlemagne's Empire"/>
          <p:cNvPicPr/>
          <p:nvPr/>
        </p:nvPicPr>
        <p:blipFill>
          <a:blip r:embed="rId1"/>
          <a:stretch/>
        </p:blipFill>
        <p:spPr>
          <a:xfrm>
            <a:off x="1461960" y="1278000"/>
            <a:ext cx="752976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228600"/>
            <a:ext cx="7010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ope Crowned Charlemagn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Holy Roman Emperor: Dec. 25, 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harlemagne Crowne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30600" y="1447920"/>
            <a:ext cx="4889520" cy="5029200"/>
          </a:xfrm>
          <a:prstGeom prst="rect">
            <a:avLst/>
          </a:prstGeom>
          <a:ln w="1908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the Great; grandson of Charles Martel; ruler of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built an empire reaching across France, Germany, &amp;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6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… on the next slid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47560" y="6858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mpire greater than any known since Rome (Holy Roman Empire); created unified Christia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crowned HRE by the pope = Pope had more power than a king… will be a prob for a LONG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ed the blending of Germanic, Christian, &amp; Roman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strong, efficient gov’ts- ex for ppl after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death = break up of power &amp; lands = feudalism &amp; diff. count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52480" y="2286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 Collapses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reaty of Verdun, 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ap-Treaty of Verdun-843"/>
          <p:cNvPicPr/>
          <p:nvPr/>
        </p:nvPicPr>
        <p:blipFill>
          <a:blip r:embed="rId1">
            <a:lum contrast="6000"/>
          </a:blip>
          <a:srcRect l="0" t="4815" r="0" b="842"/>
          <a:stretch/>
        </p:blipFill>
        <p:spPr>
          <a:xfrm>
            <a:off x="3232080" y="1371600"/>
            <a:ext cx="3930840" cy="52578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752480" y="30492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Carolingian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956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1647720" cy="173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202248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327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10666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: lords, vassals, kings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: decentralized political &amp; economic structure in which powerful local lords divided their landholdings among lesser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: serve as protection against invaders; system of mutual obligations b/n lords &amp; vas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sser l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pledged service &amp; loyalty to the greater lord in exchange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service was important to making the new gov’t &amp; econ system (Feudalism)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990360"/>
            <a:ext cx="7238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ledge of  an exchange of land &amp; loyalty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ord grants “fief” to vassal for protection; the vassal pledges his loyalty to lord &amp; promises military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3520" y="1066680"/>
            <a:ext cx="7162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estate (land) that is granted to the vassal in exchange for his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Vassal would receive land with peasants(serfs) to work it-this exchange was an important part of the Feudal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- Main Idea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- a new govt/econ system focused on protection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 contract promised exchange of land (fief) for loyalty (mutual oblig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was structured with king, lord, vassal, serf- relationships were complex- loyalties were conf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unted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ght for lords in battle in return for land (f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rf boys sent away to train @ 7, fought in battles for the lord= the protection that Feudal system was based on= without the knight- no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n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ck (fake) ba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A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served as entertainment for society; practice for the knights for real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peasants (ser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ord’s estate, villages &amp; surrounding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imp thing to Feudal econ; peasants worked on the manor in return for protection from the lord; Self-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not slaves, but bound to lord’s land &amp; couldn’t leave; worked the lord’s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worked the land- w/o them the Feudal econ wouldn’t have existed; hard life, disease &amp; hunger = most died by 35;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or- main ide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 was the lord’s estate, worked by the serf for protection- most imp part of Feud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worked the land for the lord, in return they got protection &amp; housing from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ufficient- produced everything they needed, didn’t need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s- hard life, died by 35,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0200" y="2286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t Gothic ExtraBold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762120"/>
            <a:ext cx="624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: A political, economic, and social system based on loyalty and military servi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governed Europe during Middl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6" descr="chart-feudal hierarchy"/>
          <p:cNvPicPr/>
          <p:nvPr/>
        </p:nvPicPr>
        <p:blipFill>
          <a:blip r:embed="rId1"/>
          <a:stretch/>
        </p:blipFill>
        <p:spPr>
          <a:xfrm>
            <a:off x="1447920" y="2743200"/>
            <a:ext cx="769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soc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87164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mce.k12tn.net/middleages/feudalpyrami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905120" y="228600"/>
            <a:ext cx="7010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urope in the 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eoples and Kingdoms of the Roman World 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30200"/>
            <a:ext cx="7315200" cy="50706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1600200" y="990720"/>
            <a:ext cx="7391520" cy="5429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arts of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rts of a castl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38280" y="1295280"/>
            <a:ext cx="7453440" cy="48895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_medieval_man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ap-medieval mano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14300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Life on 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erbs on Manor"/>
          <p:cNvPicPr/>
          <p:nvPr/>
        </p:nvPicPr>
        <p:blipFill>
          <a:blip r:embed="rId1"/>
          <a:stretch/>
        </p:blipFill>
        <p:spPr>
          <a:xfrm>
            <a:off x="1600200" y="1066680"/>
            <a:ext cx="3492360" cy="54864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122" name="Picture 6" descr="Medieval Builders"/>
          <p:cNvPicPr/>
          <p:nvPr/>
        </p:nvPicPr>
        <p:blipFill>
          <a:blip r:embed="rId2">
            <a:lum contrast="6000"/>
          </a:blip>
          <a:srcRect l="2226" t="0" r="2226" b="4479"/>
          <a:stretch/>
        </p:blipFill>
        <p:spPr>
          <a:xfrm>
            <a:off x="5334120" y="1295280"/>
            <a:ext cx="3581280" cy="3332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5638680" y="510552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Serf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a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038480" y="3200400"/>
            <a:ext cx="4800600" cy="3124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72000" y="228600"/>
            <a:ext cx="3733920" cy="23623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6320" y="152280"/>
            <a:ext cx="3504960" cy="441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343400" cy="29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66760" y="3049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162240" cy="203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04920" y="4724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illag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2590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Village 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105520" y="6278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Peasan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00200" y="228600"/>
            <a:ext cx="7315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Chivalry</a:t>
            </a:r>
            <a:r>
              <a:rPr b="1" lang="en-US" sz="3200" spc="-1" strike="noStrike">
                <a:solidFill>
                  <a:srgbClr val="cc3300"/>
                </a:solidFill>
                <a:latin typeface="Art Gothic ExtraBol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  A Code of Honor an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istocratic Love"/>
          <p:cNvPicPr/>
          <p:nvPr/>
        </p:nvPicPr>
        <p:blipFill>
          <a:blip r:embed="rId1"/>
          <a:stretch/>
        </p:blipFill>
        <p:spPr>
          <a:xfrm>
            <a:off x="3182760" y="914400"/>
            <a:ext cx="3903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520" y="11426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political gov’ts aroun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urch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everyone’s lives in Middle Ages (remember the picture- center of the villa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: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roots in classical Rome, Roman Catholic Church, Germanic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decreased, less 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fall of cities– went to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went from city to Rural (coun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mmon language- different dia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990360"/>
            <a:ext cx="723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 of Clergy- just like Feu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: religious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3" descr=""/>
          <p:cNvPicPr/>
          <p:nvPr/>
        </p:nvPicPr>
        <p:blipFill>
          <a:blip r:embed="rId1"/>
          <a:stretch/>
        </p:blipFill>
        <p:spPr>
          <a:xfrm>
            <a:off x="2577960" y="1743120"/>
            <a:ext cx="6121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ergy)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4756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unifying force among the people in M.A.– brought peopl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main contact with the Church and God– aka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Sacraments (important Religious ceremonies/ri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aptism, Marriage, Comm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riests &amp;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sacred rights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hristians thought by taking sacraments it would lead them to salvation after death, these guided ppl to be moral (ex. Baptism, marriage, becoming pri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dictin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ules that regulated the monastic lives of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monasteries &amp; convents acros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took vows of obedience, poverty, purity; this told them when/wha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Medieval life- the people of WE converted to Christianity &amp; anyone who didn’t belong to the church =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arish Priest: the priest (in charge of local church) practiced Christian rituals &amp; helped put the rituals into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village church: The church was a social center &amp; largest building in the village; supported by tithes, or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Cathedrals: Bishops manages Cathedrals (larger churc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taught ppl men &amp; women were =; In society, women viewed as weak; the church tried to protect women but would punish women more hars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steries &amp; Convents: Benedict organized a monastery &amp; developed Benedictine Rule- regulated monks’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&amp; Scholarship: Monasteries provided health &amp; education; kept learning alive; didn’t like women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’s role in socie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.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orldly force in Medieval Europe; non-religious (ex. Kings, empe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urch was so powerful that it even controlled the Secular life (i.e. Pope was in charge of secular leaders-k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al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dieval p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Pope had authority of all people (Kings &amp; Emperors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Pope was viewed as a representative of God here on earth; he was higher than anyone else= Pope w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was the most important thing in life during Middle Ages= Pope was the most important and powerful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1143000"/>
            <a:ext cx="7238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arrior king of the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conquered part of the Roman Empire &amp; established the Frank kingdom; converted to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496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Frank kingdom replaced the great Roman Empire; his kingdom became what is today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church’s body of laws based on religious teachings that Christians had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governed many aspects of life- wills, marriages, &amp; morals; if you broke these rules- you’d be pu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Christians received for breaking Canon law- kicked out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severe of punishment- you could not receive sacraments or Christian burial = condemned to hell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werful noble,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for not obeying Canon law- an order excluding a noble’s entire land/region from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the noble received this- his people couldn’t get sacraments or Christian burial  =revol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uthority: Christian church dedicated to God- anyone who broke Canon law = punishment such as excommunication or inter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&amp; Reform: Christians left land &amp; wealth to monasteries – Clergy took this wealth = corrupt = started breaking rules (getting married) =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nks that did not live in isolated monasteries, they traveled through Europe preaching to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had an impact on religion in WE- converted the poor ppl to Christianity = Christianity becam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ealthy Italian 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nded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of Friars called the Frans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81- 1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devoted himself to preaching the Gospels &amp; teaching through his examples of good works; preached poverty, humility, &amp; lov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388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eligious communities where Monks lived; Nuns lived in con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ere Europe’s best educated communities: schools, libraries,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k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hart-a monk's day"/>
          <p:cNvPicPr/>
          <p:nvPr/>
        </p:nvPicPr>
        <p:blipFill>
          <a:blip r:embed="rId1">
            <a:lum contrast="6000"/>
          </a:blip>
          <a:srcRect l="1431" t="11905" r="1431" b="2385"/>
          <a:stretch/>
        </p:blipFill>
        <p:spPr>
          <a:xfrm>
            <a:off x="1600200" y="1380960"/>
            <a:ext cx="7238880" cy="4791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752480" y="3348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astery:  The </a:t>
            </a: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Scrip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onastic librar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1219320"/>
            <a:ext cx="3781440" cy="54385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t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rom the latin words for “Middle Age”; time period after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ulture blended Greco-Roman, Germanic, &amp; Christian traditions to make a new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Illuminated Manu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Illuminated Manuscript-2"/>
          <p:cNvPicPr/>
          <p:nvPr/>
        </p:nvPicPr>
        <p:blipFill>
          <a:blip r:embed="rId1">
            <a:lum contrast="6000"/>
          </a:blip>
          <a:srcRect l="1493" t="4045" r="4715" b="3556"/>
          <a:stretch/>
        </p:blipFill>
        <p:spPr>
          <a:xfrm>
            <a:off x="2971800" y="990720"/>
            <a:ext cx="4492800" cy="55623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4756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system of justice- The law of the Church for matters such as marriage &amp;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you didn’t obey Canon Law, you would be excommunicated or not allowed to take Sacraments = Hel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Pope or 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had #1 power on earth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thought they were from God &amp; should have the #1 power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truggle… Who has the #1 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ower struggle 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99840" y="1066680"/>
            <a:ext cx="7086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resented Kings/nobles having power over the churc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BANS Lay Invest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es King, so King says: “Step down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Excommunicates King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Pope has more po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 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Kings &amp; the P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Kings &amp; nobles appointed church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_(you should know these by now…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Kings had power over the church = the Church/Pope gets mad = Pope BANS Lay Investiture= King &amp; Pope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orda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pe &amp;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greement b.n Pope &amp; K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orms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22 CE (Middle Ag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do these cards that aren’t here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47560" y="1676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gia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Romanesque Architectur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600200" y="838080"/>
            <a:ext cx="75438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ed Ar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rel v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ck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rker, simplistic inter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all windows, usually at the top of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1800" y="3735360"/>
            <a:ext cx="4038480" cy="28177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People, Clo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group of people that conquered parts of the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 (France &amp; Switzerland to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eader Clovis converted to Christianity &amp; united all the Franks = made them all Christian; their area &amp; customs eventually became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Marte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ader of Frankish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on the Battle of Tours &amp; stopped Muslims from entering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pushed the Muslims back, out of Europe, which showed God was on the Christians’ side=  WE stays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our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99840" y="990360"/>
            <a:ext cx="7086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Martel, Frankish warriors vs.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battle between Muslims &amp; Christians over contro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ristians pushed the Muslims back= Muslims did not conquer France; made W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7:28:21Z</dcterms:created>
  <dc:creator>Susan M. Pojer</dc:creator>
  <dc:description/>
  <dc:language>en-US</dc:language>
  <cp:lastModifiedBy>Windows User</cp:lastModifiedBy>
  <dcterms:modified xsi:type="dcterms:W3CDTF">2012-09-06T19:43:23Z</dcterms:modified>
  <cp:revision>186</cp:revision>
  <dc:subject/>
  <dc:title>Slide 1</dc:title>
</cp:coreProperties>
</file>